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EB8-96A8-42B8-915F-840DE290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F3E-B913-4027-BD93-F95C45278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1A1-6D99-436D-BF1F-096488B2B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94D-235B-4ACB-BD85-50710F0C8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63EC-5617-493C-8D92-A796C7D6C5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D73-5047-4780-B0C1-75FE1831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7EA-DCB7-4538-92A3-5A3E6B6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B10-9885-4251-9514-AEC37BA2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33E-8421-4D80-AA37-3E38F5D3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467-D2B1-4BBA-8EEC-547FEFED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1D2D-4D75-4692-A321-5A575F2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776-558E-4039-8B1B-D2BEAB6E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1A51-D480-4C0E-923A-EA4C627C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B05-3BF6-46F1-BB34-4F8A872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9133-0C56-41CF-998A-0A17CF2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5DDD-3751-48EB-B2D3-0643A5E5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2F5-2A0E-42ED-9028-DDD9E04C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8AAF-6AD5-4BAA-BC18-9E058A95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9784-08BA-4955-ABC7-6AAD0B7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D0D-6773-4829-8CF8-0F083B8E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C061-923C-4192-B99D-8D9E1BB9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224-821A-4FC0-8E4A-CC99CC51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EF2-7A26-4B36-B060-3A9368D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09D-9AED-4A0E-965A-7181B5CE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76B-7CE8-422A-8D9B-319C8B6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0B9-F3BB-407F-8513-6117AFCF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F3A-6FD0-4DB8-A717-36DDCD8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722-C4C1-4795-85EF-860C5E5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7D5-0136-4EDB-BE51-C71B50B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8BCE-73DE-4014-9BEE-D3F083826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2ACD-04B5-4258-B539-3C68D6DFD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D92-0F87-4565-A558-03A4AC45C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7BEA-7C05-4316-BE39-22275278C49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AD13-0682-40F5-9F76-7345B0978E3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487520"/>
            <a:ext cx="80773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9D2-8326-4B6F-ACBF-0770EDB94E2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85800" y="1676520"/>
            <a:ext cx="6858000" cy="369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I like th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54418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subject of sentenc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54418"/>
                </a:solidFill>
                <a:latin typeface="Arial"/>
              </a:rPr>
              <a:t>the book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direct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The books are pleasant to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4418"/>
                </a:solidFill>
                <a:latin typeface="Arial"/>
              </a:rPr>
              <a:t>The book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= subject of sentence</a:t>
            </a:r>
            <a:br>
              <a:rPr sz="1800"/>
            </a:br>
            <a:r>
              <a:rPr b="1" i="1" lang="en-US" sz="1800" spc="-1" strike="noStrike">
                <a:solidFill>
                  <a:srgbClr val="354418"/>
                </a:solidFill>
                <a:latin typeface="Arial"/>
              </a:rPr>
              <a:t>me</a:t>
            </a:r>
            <a:r>
              <a:rPr b="0" i="1" lang="en-US" sz="1800" spc="-1" strike="noStrike">
                <a:solidFill>
                  <a:srgbClr val="35441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indirect object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985-237F-47D4-A4F5-FE570C44C2D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1676520"/>
            <a:ext cx="6858000" cy="3507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I like th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o gusto los libros (wr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418"/>
                </a:solidFill>
                <a:latin typeface="Arial"/>
              </a:rPr>
              <a:t>The books are pleasant to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 gustan los libros. (right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EE2-9416-4D21-B649-5F2C280B436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080" y="1922400"/>
            <a:ext cx="6858000" cy="396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418"/>
                </a:solidFill>
                <a:latin typeface="Arial"/>
              </a:rPr>
              <a:t>The verb is conjugated to agree with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418"/>
                </a:solidFill>
                <a:latin typeface="Arial"/>
              </a:rPr>
              <a:t>subject of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e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ustan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los libros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like the books.)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E298-20AB-43D7-BAEC-E19614F1DE3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Verbs like “GUSTAR”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600200"/>
          <a:ext cx="7925040" cy="3789360"/>
        </p:xfrm>
        <a:graphic>
          <a:graphicData uri="http://schemas.openxmlformats.org/drawingml/2006/table">
            <a:tbl>
              <a:tblPr/>
              <a:tblGrid>
                <a:gridCol w="3673440"/>
                <a:gridCol w="42516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Singular Sub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Plural Sub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M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 ca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M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s cas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T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l cuar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T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os cuar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 sill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as sill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No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l hote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No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os hotel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l reloj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54418"/>
                          </a:solidFill>
                          <a:latin typeface="Times New Roman"/>
                        </a:rPr>
                        <a:t>L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gust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os reloj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u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C24C-1BA1-4453-86D7-248453088F28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UST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397160"/>
          <a:ext cx="8001000" cy="5305320"/>
        </p:xfrm>
        <a:graphic>
          <a:graphicData uri="http://schemas.openxmlformats.org/drawingml/2006/table">
            <a:tbl>
              <a:tblPr/>
              <a:tblGrid>
                <a:gridCol w="1406520"/>
                <a:gridCol w="1413000"/>
                <a:gridCol w="1600200"/>
                <a:gridCol w="1752480"/>
                <a:gridCol w="182880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ter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I 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i 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A él/ella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Ud. 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sotros 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A ellos/ell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Uds.l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aba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4418"/>
                          </a:solidFill>
                          <a:latin typeface="Arial"/>
                        </a:rPr>
                        <a:t>gustará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u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elisenda.rasero</cp:lastModifiedBy>
  <dcterms:modified xsi:type="dcterms:W3CDTF">2010-09-30T09:19:01Z</dcterms:modified>
  <cp:revision>115</cp:revision>
  <dc:subject>Español 101</dc:subject>
  <dc:title>Presente Progresivo</dc:title>
</cp:coreProperties>
</file>